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BE55-763B-4C93-94E5-5B890CC81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0279-3A0C-44B5-B535-2E999304E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A9B5-416C-48F4-B4D3-9D9B558DE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870E-96EC-47AA-9A28-FE0E050C5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F9EC-B26E-4A18-A967-651893385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7D9D-19FE-4955-9F1E-D36C35EAF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07E0-17AF-4578-8420-CCC219229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6257-1E07-4668-B157-7FB1615A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3539-EE43-4D4B-99EF-484103E5B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7BF0-0FE2-47DA-9CF6-C4CE8C2A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4073-BF22-4F48-99B5-1E7B48D3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6716-62CD-4529-8F6B-C1DD4B18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B8ED8-AEA0-4C2C-B837-F75AD37AEB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Guide 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2193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amounts of the elements in a compound = perce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s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1337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Calculating % mass of an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%251" descr=""/>
          <p:cNvPicPr/>
          <p:nvPr/>
        </p:nvPicPr>
        <p:blipFill>
          <a:blip r:embed="rId1"/>
          <a:stretch/>
        </p:blipFill>
        <p:spPr>
          <a:xfrm>
            <a:off x="457200" y="2590920"/>
            <a:ext cx="7607160" cy="1315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09480" y="38862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practice problem 10.9 (pg 306) and do practice problems 32 and 33 in 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Calculating  % composition from a chemical form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%252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7740360" cy="15368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14400" y="2438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practice problem 10.10 (page 307) and do problem 34 a and b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do not forget to figure out the mass of each atom in the compound to get the total molar ma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36576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irical formula:  lowest whole number ratio of the atoms of the elements in a compoun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4495680"/>
            <a:ext cx="7620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 Hydrogen Peroxide – molecular formula = 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empirical formula = HO because the smallest whole number ration is 1 t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determining empirical formula of a comp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76212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:  25.9% nitrogen and 74.1% oxy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em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1T03:51:01Z</dcterms:created>
  <dc:creator>jpak</dc:creator>
  <dc:description/>
  <dc:language>en-US</dc:language>
  <cp:lastModifiedBy>Farwell Area Schools</cp:lastModifiedBy>
  <dcterms:modified xsi:type="dcterms:W3CDTF">2008-11-12T14:21:20Z</dcterms:modified>
  <cp:revision>6</cp:revision>
  <dc:subject/>
  <dc:title>Note Guide 6.3</dc:title>
</cp:coreProperties>
</file>